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831D-4AD0-4982-80D8-D474C3379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510A-ECBA-41DD-88C5-C2E2F70DD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A43-B99E-4E14-B974-F2F3126A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A54-735B-48DD-B0BC-40CCFD44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A5D3-859C-4226-908B-E482250A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8DB-3155-49A4-88AF-6CA60F72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5B1E-1608-4ECE-8823-A2F4FEA8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3913-F80B-4ED1-95A2-5302135B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5CD2-58B9-4BD7-8ECB-62D41C14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F5A9-27AE-4F34-8416-1A091F63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34EF-DB5A-405B-8FD5-1FCBC7F6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B5D9-F09E-4D15-8294-772B2D28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2F8C-5AA9-4830-AAF2-26AD3F94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E4DD-94F0-45BC-96AB-F461E5A7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7279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3741-6BD5-47B1-8BE6-00FACB40B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The Digestive System</a:t>
            </a:r>
            <a:br>
              <a:rPr sz="4800"/>
            </a:br>
            <a:r>
              <a:rPr b="0" i="1" lang="en-US" sz="4800" spc="-1" strike="noStrike">
                <a:solidFill>
                  <a:srgbClr val="ffffff"/>
                </a:solidFill>
                <a:latin typeface="Arial Rounded MT Bold"/>
              </a:rPr>
              <a:t>Do you take it  for grant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Chemical Diges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Chemicals produced by the body break foods into smaller chemical building block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Begins in the mout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C:\WINDOWS\Application Data\Microsoft\Media Catalog\Downloaded Clips\cl60\j0242141.wmf"/>
          <p:cNvPicPr/>
          <p:nvPr/>
        </p:nvPicPr>
        <p:blipFill>
          <a:blip r:embed="rId1"/>
          <a:stretch/>
        </p:blipFill>
        <p:spPr>
          <a:xfrm>
            <a:off x="7238880" y="3048120"/>
            <a:ext cx="1219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Chemical Digestion, Co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Accomplished by enzy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Enzymes – protein that speeds up chemical reactions in the bo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Absorp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Occurs after food has been diges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rocess by which nutrient molecules pass through the wall of the digestive system into the bl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Mou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Saliva – fluid released when your mouth wa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Important role in both mechanical and chemical digestive proces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Esophagu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 muscular tube that connects the mouth to the stom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Is lined with mucus – a thick slippery substance – makes food easier to swallow and move through the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Esophagus, Co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The epiglottis seals off the windpipe to prevent food from enter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eristalsis are involuntary waves of muscle con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Stom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A j-shaped muscular pouch located in the abdom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Most mechanical digestion occurs in the stomach along with chemical dig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:\WINDOWS\Application Data\Microsoft\Media Catalog\Downloaded Clips\cl0\HM00097_.wmf"/>
          <p:cNvPicPr/>
          <p:nvPr/>
        </p:nvPicPr>
        <p:blipFill>
          <a:blip r:embed="rId1"/>
          <a:stretch/>
        </p:blipFill>
        <p:spPr>
          <a:xfrm>
            <a:off x="7238880" y="762120"/>
            <a:ext cx="17528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Stomach, Co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Digestive juice contains the enzyme pepsin and hydrochloric ac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Pepsin kills bacteria that enters with f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Stomach, Con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Hydrochloric acid helps the stomach to function properl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Mucus coats and protects the stomach from aci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he Stomach, Co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Food remains in the stomach until all solid material has been broken down into liquid fo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It takes a few hours for food to diges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457200" y="487440"/>
            <a:ext cx="80773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Rounded MT Bold"/>
              </a:rPr>
              <a:t>For me the phrase we are what we eat means……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Rounded MT Bold"/>
              </a:rPr>
              <a:t>For my partner the phrase we are what we eat means……………………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 Rounded MT Bold"/>
              </a:rPr>
              <a:t>I feel……………..about my eating habi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Digestive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Image result for digestion"/>
          <p:cNvPicPr/>
          <p:nvPr/>
        </p:nvPicPr>
        <p:blipFill>
          <a:blip r:embed="rId1"/>
          <a:stretch/>
        </p:blipFill>
        <p:spPr>
          <a:xfrm>
            <a:off x="1100160" y="1676520"/>
            <a:ext cx="6943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What is the function of your digestive system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0280" y="1836720"/>
            <a:ext cx="7772400" cy="31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1.</a:t>
            </a: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reaks down food into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olecu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2.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Molecules are absorbed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into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blood and carried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throughout the bo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" descr="Image result for functions"/>
          <p:cNvPicPr/>
          <p:nvPr/>
        </p:nvPicPr>
        <p:blipFill>
          <a:blip r:embed="rId1"/>
          <a:stretch/>
        </p:blipFill>
        <p:spPr>
          <a:xfrm>
            <a:off x="1600200" y="4876920"/>
            <a:ext cx="45720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WASTE ELIMATION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(The large intestines is not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really larger than the 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small intestine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Image result for large intestine function"/>
          <p:cNvPicPr/>
          <p:nvPr/>
        </p:nvPicPr>
        <p:blipFill>
          <a:blip r:embed="rId1"/>
          <a:stretch/>
        </p:blipFill>
        <p:spPr>
          <a:xfrm>
            <a:off x="380880" y="228600"/>
            <a:ext cx="8542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9696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What is digestion exactly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908000"/>
            <a:ext cx="6597720" cy="490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Process by which the body breaks down food into small nutrient molecules.  Small enough to pass through the bloodstre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Image result for digestion"/>
          <p:cNvPicPr/>
          <p:nvPr/>
        </p:nvPicPr>
        <p:blipFill>
          <a:blip r:embed="rId1"/>
          <a:stretch/>
        </p:blipFill>
        <p:spPr>
          <a:xfrm>
            <a:off x="5491080" y="5146560"/>
            <a:ext cx="29638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44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Two Kinds of Diges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Mechanica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 Rounded MT Bold"/>
              </a:rPr>
              <a:t>Chemic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Image result for digestion"/>
          <p:cNvPicPr/>
          <p:nvPr/>
        </p:nvPicPr>
        <p:blipFill>
          <a:blip r:embed="rId1"/>
          <a:stretch/>
        </p:blipFill>
        <p:spPr>
          <a:xfrm>
            <a:off x="1295280" y="533520"/>
            <a:ext cx="607716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 Rounded MT Bold"/>
              </a:rPr>
              <a:t>Mechanical Diges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Foods are physically broken down into smaller piec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Begins when you take your first bite of f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Your teeth are the first stage in mechanical dig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16:54:54Z</dcterms:created>
  <dc:creator>Paul Fletcher</dc:creator>
  <dc:description/>
  <dc:language>en-US</dc:language>
  <cp:lastModifiedBy>Daly Dominguez</cp:lastModifiedBy>
  <dcterms:modified xsi:type="dcterms:W3CDTF">2016-10-06T18:20:06Z</dcterms:modified>
  <cp:revision>32</cp:revision>
  <dc:subject/>
  <dc:title>Digestive Process Begins</dc:title>
</cp:coreProperties>
</file>